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C98-D1C1-4FF9-A014-6048B661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C6C-E4AA-4581-8DD0-5D6F21EC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693-E011-4BF5-AFD7-35E6B4BA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6EE-92F4-46A5-BCD9-9DA02948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CFBE-C0DA-4B30-BFF4-3A712A4D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681C-CAA0-47A6-AD43-5292E55B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253F-305B-4FFF-BED1-FABEB7E0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307F-1F7C-4979-A828-6D6C41B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48B1-06DA-4F5B-9277-3BE147C1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B479-A677-46D5-BF5F-5926AA75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EC84-773F-4939-B289-17DF04F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160-9D26-4704-B4BC-DEBBDE50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5C5B-C6DF-4D52-AA85-0317C141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7EE-C5A3-43A0-A5B9-8DCB5F0E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59A6-9F31-442F-A600-17764F3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759F-6830-46E8-B00E-ED24FBE2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9CC-BC06-4FA6-9080-BFCA52AE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3F5-4949-478F-BC1A-E73A71BF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EBD-511F-43E6-9860-FB8767E5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30E-7D04-4A53-AA7A-DF191C08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BB9-58BB-42F0-8E0C-C9D9F27B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95F-5108-461D-AD9C-A8DD9BF0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688-5F78-4236-A946-13E8198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3DB-72F6-45A7-B994-F230DFB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DDAA-4218-4FC0-9B56-97F4ED07E82C}" type="slidenum">
              <a:rPr b="0" lang="es-PE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B9B1-5DC8-447D-AD37-957CD01724BB}" type="slidenum">
              <a:rPr b="0" lang="es-PE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800" spc="-1" strike="noStrike">
                <a:solidFill>
                  <a:srgbClr val="f7d47d"/>
                </a:solidFill>
                <a:latin typeface="Arial Narrow"/>
              </a:rPr>
              <a:t>GENERALIDADES SOBRE EL DESARROLLO</a:t>
            </a:r>
            <a:br>
              <a:rPr sz="2800"/>
            </a:br>
            <a:r>
              <a:rPr b="1" lang="es-MX" sz="2800" spc="-1" strike="noStrike">
                <a:solidFill>
                  <a:srgbClr val="f7d47d"/>
                </a:solidFill>
                <a:latin typeface="Arial Narrow"/>
              </a:rPr>
              <a:t>PSICOSOCIAL</a:t>
            </a:r>
            <a:br>
              <a:rPr sz="2800"/>
            </a:b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049800" cy="3755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581280" y="5486400"/>
            <a:ext cx="3581640" cy="9144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María Elena Iglesias López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CESI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Setiembre, 200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7d47d"/>
                </a:solidFill>
                <a:latin typeface="Arial Narrow"/>
              </a:rPr>
              <a:t>IDENTIDAD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4213080" cy="32371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21000"/>
            <a:ext cx="7740720" cy="194472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f1311"/>
                </a:solidFill>
                <a:latin typeface="Arial Narrow"/>
              </a:rPr>
              <a:t>Crisis de identidad, de autoridad y de manejo de la sexualidad</a:t>
            </a: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f1311"/>
                </a:solidFill>
                <a:latin typeface="Arial Narrow"/>
              </a:rPr>
              <a:t>Medio familiar-social debe adecuase las necesidade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f1311"/>
                </a:solidFill>
                <a:latin typeface="Arial Narrow"/>
              </a:rPr>
              <a:t>y características del perío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l grupo es fundamental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PE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19928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3024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3816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l desarrollo de los ser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humanos es un proces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permanente de progresiv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integración y diferenci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e la persona como se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ocial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s el resultado del interjueg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e una serie de elementos, 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onde el individuo influye 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u entorno y es influido a s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vez por ést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321624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La posibilidad de actualizar todas l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capacidades de las personas depende n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sólo de la salud de su organismo, sino qu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es indispensable que las condiciones en l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que vive y se desarrolla, faciliten l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expresión y promuevan la activación 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f1311"/>
                </a:solidFill>
                <a:latin typeface="Arial Narrow"/>
              </a:rPr>
              <a:t>dichas capacidades.</a:t>
            </a:r>
            <a:r>
              <a:rPr b="0" lang="es-ES" sz="32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-5760"/>
            <a:ext cx="74768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6524280"/>
            <a:ext cx="73864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765000"/>
            <a:ext cx="4824360" cy="935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DESARROLLO HUMANO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"/>
              </a:rPr>
              <a:t>proceso permane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620640"/>
            <a:ext cx="504720" cy="5400720"/>
          </a:xfrm>
          <a:prstGeom prst="downArrow">
            <a:avLst>
              <a:gd name="adj1" fmla="val 50000"/>
              <a:gd name="adj2" fmla="val 267511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M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M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N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T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V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U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T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I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V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2565360"/>
            <a:ext cx="2592360" cy="1297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INTEGRACIÓ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Con el medio social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y materi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2565360"/>
            <a:ext cx="2448000" cy="1297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DIFERENCIACIÓ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Particularidades como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individuo actuando e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1311"/>
                </a:solidFill>
                <a:latin typeface="Arial Narrow"/>
              </a:rPr>
              <a:t>ese medi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692280"/>
            <a:ext cx="1152360" cy="10792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Posibilidades y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Reto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specífico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2276640"/>
            <a:ext cx="1295280" cy="136836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Persona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completa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con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característica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f1311"/>
                </a:solidFill>
                <a:latin typeface="Arial"/>
              </a:rPr>
              <a:t>definida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149720"/>
            <a:ext cx="1225440" cy="194328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Presencia de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lementos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previos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organizado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en estructuras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mayor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f1311"/>
                </a:solidFill>
                <a:latin typeface="Arial Narrow"/>
              </a:rPr>
              <a:t>complejidad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5157720"/>
            <a:ext cx="5040360" cy="79236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PROGRESIVA INTEGRACIÓN DE LO PREVI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s-ES" sz="1800" spc="-1" strike="noStrike">
                <a:solidFill>
                  <a:srgbClr val="2f1311"/>
                </a:solidFill>
                <a:latin typeface="Arial Narrow"/>
              </a:rPr>
              <a:t>Y EXPANSIÓN HACIA ELEMENTOS NUEVOS </a:t>
            </a:r>
            <a:r>
              <a:rPr b="0" lang="es-ES" sz="18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758200">
            <a:off x="250920" y="1557360"/>
            <a:ext cx="395280" cy="863640"/>
          </a:xfrm>
          <a:custGeom>
            <a:avLst/>
            <a:gdLst>
              <a:gd name="textAreaLeft" fmla="*/ 52920 w 395280"/>
              <a:gd name="textAreaRight" fmla="*/ 342360 w 39528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7093800">
            <a:off x="1223640" y="3681000"/>
            <a:ext cx="576360" cy="792000"/>
          </a:xfrm>
          <a:custGeom>
            <a:avLst/>
            <a:gdLst>
              <a:gd name="textAreaLeft" fmla="*/ 100800 w 576360"/>
              <a:gd name="textAreaRight" fmla="*/ 417960 w 576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1916280"/>
            <a:ext cx="502920" cy="431640"/>
          </a:xfrm>
          <a:custGeom>
            <a:avLst/>
            <a:gdLst>
              <a:gd name="textAreaLeft" fmla="*/ 67320 w 502920"/>
              <a:gd name="textAreaRight" fmla="*/ 435600 w 50292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1916280"/>
            <a:ext cx="432000" cy="43164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42210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7d47d"/>
                </a:solidFill>
                <a:latin typeface="Arial Narrow"/>
              </a:rPr>
              <a:t>LAS ETAPAS DEL DESARROLLO PSICOSOCIAL </a:t>
            </a:r>
            <a:br>
              <a:rPr sz="2800"/>
            </a:br>
            <a:r>
              <a:rPr b="1" lang="es-PE" sz="2800" spc="-1" strike="noStrike">
                <a:solidFill>
                  <a:srgbClr val="f7d47d"/>
                </a:solidFill>
                <a:latin typeface="Arial Narrow"/>
              </a:rPr>
              <a:t>OCHO EDADES DEL HOMBRE – E. ERICKSON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24000" y="1595520"/>
          <a:ext cx="7416720" cy="41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95520"/>
                    <a:ext cx="741672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7d47d"/>
                </a:solidFill>
                <a:latin typeface="Arial Narrow"/>
              </a:rPr>
              <a:t>CONFIANZA BÁSIC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1197000"/>
            <a:ext cx="3384360" cy="5111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uidador(a) que transmita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al niño o niña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stabilidad, tranquilidad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onfianza y prote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quilibrio entre l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atisfac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y la frustr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Reconocimiento po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parte de los demás</a:t>
            </a:r>
            <a:r>
              <a:rPr b="0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666800"/>
            <a:ext cx="4427640" cy="36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7d47d"/>
                </a:solidFill>
                <a:latin typeface="Arial Narrow"/>
              </a:rPr>
              <a:t>AUTONOMÍ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125360"/>
            <a:ext cx="3851280" cy="4896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Yo sólo, yo sola”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Conductas d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negativismo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expresiones de qu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esta poniendo a prueb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su existencia individ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Combinar con delicadeza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apertura y  paciencia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el respeto por la crecient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autonomía y la necesidad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de aprender norma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f1311"/>
                </a:solidFill>
                <a:latin typeface="Arial"/>
              </a:rPr>
              <a:t>para la convivencia social</a:t>
            </a:r>
            <a:r>
              <a:rPr b="0" lang="es-ES" sz="1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319716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7d47d"/>
                </a:solidFill>
                <a:latin typeface="Arial Narrow"/>
              </a:rPr>
              <a:t>INICIATIVA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774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Apoyar la autonomía, entendiendo los momentos de temor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uriosidad natural unida a sus crecientes capacidades físicas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lleva a experimentar e investigar el mundo que les rodea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culp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Orientar su curiosidad e iniciativ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i surgen dificultades, debe quedar claro que el problema 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está en la necesidad de saber y conocer sino en la forma e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que ponemos en práctica  esa neces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4221000"/>
            <a:ext cx="4896000" cy="199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p:transition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98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98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98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7d47d"/>
                </a:solidFill>
                <a:latin typeface="Arial Narrow"/>
              </a:rPr>
              <a:t>COMPETENCIA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47640" y="2747880"/>
            <a:ext cx="4788000" cy="3402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1052640"/>
            <a:ext cx="7416720" cy="165564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Demostrarse a sí mismos(as) y a los demás que son capac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Ubicación equilibrada para no interferir con l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responsabilidad que le corresponde  al niño o niña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pero estar presentes</a:t>
            </a:r>
            <a:r>
              <a:rPr b="0" lang="es-ES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s-ES" sz="2400" spc="-1" strike="noStrike">
                <a:solidFill>
                  <a:srgbClr val="2f1311"/>
                </a:solidFill>
                <a:latin typeface="Arial Narrow"/>
              </a:rPr>
              <a:t>si éste o ésta les necesita</a:t>
            </a:r>
            <a:r>
              <a:rPr b="0" lang="es-ES" sz="2400" spc="-1" strike="noStrike">
                <a:solidFill>
                  <a:srgbClr val="2f1311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entro de Estudios Sociales y Publicaciones - CESI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21:51:55Z</dcterms:created>
  <dc:creator>user</dc:creator>
  <dc:description/>
  <dc:language>en-US</dc:language>
  <cp:lastModifiedBy>marlene</cp:lastModifiedBy>
  <dcterms:modified xsi:type="dcterms:W3CDTF">2005-12-05T15:23:32Z</dcterms:modified>
  <cp:revision>5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